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06E-C587-41D7-8B46-8739C72D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BCB-4925-425F-94DC-932F5997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504-AAE3-49A7-8B04-676B9D6D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DCD-838D-4B78-8663-2A6CFA32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135-A5BE-4B5E-92F2-762FA3D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131-0694-4A53-8BF6-C939EC5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95F-615D-4616-9F4C-DA2DAE0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039-19E1-40F3-B9BE-3A487797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004-193C-4ADF-B4DE-32EDE3B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A7C-E189-467E-8FA5-272FDCDA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482-63E6-4745-927C-E2839EB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46C-A271-42DF-8C2B-8E6D3CF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541A-2B8C-4683-8E73-DAA7CFC1607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1 Ako ľúby vánok z ra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ľúby vánok z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sa nádej naša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zárukou nám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nám Otec neba skvost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 svojej lásky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u vďaka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mene naš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nás vedi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ždy verne za ním kráč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vábi ho z cesty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, vďaku jemu vzd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om sa pre nás stal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ho privít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ako kráľov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9T11:04:53Z</dcterms:modified>
  <cp:revision>23</cp:revision>
  <dc:subject/>
  <dc:title>Je veľký náš Pán, on slávy je Kráľ Nech do všetkých strán  spev vrúcnych znie chvál.</dc:title>
</cp:coreProperties>
</file>